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92D-463A-4549-B060-4E818BD1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572-FAF2-4356-9640-95FB5A20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DED-7562-46AD-B584-BDE27D25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F75-9ED0-4778-A5DE-EF683285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1A99-49AF-417E-88EC-1E2D4314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962-6D47-4204-9E36-C31138E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03E-C835-4F57-858B-3451077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5E7D-8AC1-4A1D-A57F-78BBBB7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76D4-85B0-4684-B481-0D17A45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641B-96BA-426F-9851-937F60FA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12F0-DDE2-496B-9E45-852D49E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3AE-399E-4ADC-AB5C-A56065E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1E4A-45FF-4618-B5BB-A8E93BC6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39B2-7432-4BC8-AA47-FEB9A4C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E3CC-FDF5-49F7-8334-0C19F3BA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01F-7139-4BEF-83EF-9014B0B0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3BE3-FECE-479E-88D3-15DA2B60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F89-BB7A-4718-8D52-A15E245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8BD-5E40-42BD-84EA-12C2628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953-57C8-49C7-A66A-492BFAB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69A-EE5D-4064-8CC0-4FE142E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4E4-128C-44BD-94A1-2656195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58C-BACE-482C-B948-4BD3BD9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5BE-AAF1-435A-A5A1-7AC9705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373-8349-431A-ACC8-6F5724C51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1B9-E367-4733-8DD5-89181B9235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BIUS ILS Task Forc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MOBIUS Council, February 29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 Members: Eileen Condon (Eden-Webster), Judy Fox, Chair (Washington Univ.), Christopher Gould (MCO), Sheila Ouellette (St. Louis CC), Denise Pakala (Covenant), Ann Riley (UMC), Stephen Wynn (Truman State), Beth Fisher, Ex-of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US ILS Task Fo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ed Nov. 9, 2007 with a January 15, 2008 reporting dead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view and develop information, possibly including an RFI, on ILS enhanced search software, review vendors’ offerings and recommend a proposed solution to the MOBIUS Executive Committee and Counci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of desired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rence calls for 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interviews with customers/insta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demos at 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rom post on MOBIUS-USERS-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rom libraries already investigat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and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features and comparison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find a system that met our vision of “one stop discovery and delive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ibrary and cluster environment adds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me close: AquaBrowser, Encore and Pr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investigatio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P needed if funding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would need to be invited to online and live demos of software und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less funding discu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ed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q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rm recommendations possible 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force members are willing to continue to gathe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US members could be surveyed for prioritized list of ILS enhancements des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O funding possibility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all members to offer input, review features and compari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9:28:38Z</dcterms:created>
  <dc:creator>Barney Rubble</dc:creator>
  <dc:description/>
  <dc:language>en-US</dc:language>
  <cp:lastModifiedBy>Barney Rubble</cp:lastModifiedBy>
  <dcterms:modified xsi:type="dcterms:W3CDTF">2008-02-28T20:50:15Z</dcterms:modified>
  <cp:revision>27</cp:revision>
  <dc:subject/>
  <dc:title>MOBIUS ILS Task Force </dc:title>
</cp:coreProperties>
</file>